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3F98-2441-4999-9012-EF25CCFEA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4B22-41FA-4C9E-AA3A-5E171E05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12E9-910F-4A49-A5BA-26DF0B3BD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593B-9184-45A1-8ED9-FC05CAD0F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B6A4-83EC-4C43-9F11-A981E9129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3428-69A2-49C6-8F2E-21031AE7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DC90-F64F-4C1D-BE55-9FD45755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1657-56A9-4980-A8D6-A404A6CB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6F7A-28B1-4A63-82FC-A7E731FA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C98B-C7E6-4A6D-9793-B29CAFD0F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4B826-01EB-4BF0-A5B3-471A34A5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BC01-6819-4970-B6FF-8AC3B88C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72D6-FE86-407B-9A41-F317902A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4100-16DD-4C4D-9489-CDB8E34F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5052-EB36-4EAC-94CC-82595CB1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6023-EE8D-45B7-BC82-8ECD34100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CF42-49BB-4ED2-8B8A-A546CBA69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6DF3DC-2AF6-47E0-BDCC-F43B2A8F4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24E8F9-15F6-42A9-9619-2E73E6FF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F3953A-9BCA-4E4A-8664-2E9C5B48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199F81-B79E-484F-9B0C-41E45198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B64877-2BCB-49F6-92C5-A22D9913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6EC7-BA4F-4AD4-A067-5A95F391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EC7028-294D-4316-8355-BB246EA2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E5891B-0E02-4B22-A361-C889CC97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ED7812-B66A-4B0E-BD5D-9A9EB0DB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26F5A9-3239-41D1-9FF4-EA27FBBE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09858F-0F27-43C4-908F-5A716E36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E3B68B-4FA6-4276-A1FE-E437A6A54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4E8017-C28E-4351-BA06-74780F155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356DC-4474-4617-9733-15156F77D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E5B60-D90B-4427-9C7A-EFEE00B5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E95A8-F627-4A43-B4D0-4122D8B5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E83D-84E6-4E9A-9804-150A95F0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4C147-AE53-47B5-B54A-A4EA1D93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AAC8F-FAD3-4B1B-A220-616761BC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F699C-C34A-47FC-9044-4AF063CD8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5B32D-858B-4F4A-8870-67035CB3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0108F-07FB-4306-9415-CEDA2229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AE81F-F408-49A6-B0F4-1E61C431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C833D-D8BE-4D6E-AC96-82653D0C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FB6CB-E0BC-4035-8320-9F618AD7D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45A87-3364-4C2C-AA66-BDFFD6E3C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FED7-2E89-4116-B3BF-43F232FE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655F-38C5-4A9C-A253-B9BAF82A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0640-EEF5-4B34-8708-882BDF58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120C-6464-47EF-BF87-04D749D1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F42B-FA64-417C-8439-DC4E3589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4677-01DB-4DC4-8E6B-20EEEC446DBA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38F4-9A10-4CA9-905E-D8E48FF7531C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F4C5-C2DC-4B99-848B-48950EB8021E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93A7-7A0D-412F-B4EC-D3835C9B2F69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F:\big_2394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TextBox 4"/>
          <p:cNvSpPr/>
          <p:nvPr/>
        </p:nvSpPr>
        <p:spPr>
          <a:xfrm>
            <a:off x="642960" y="428760"/>
            <a:ext cx="77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61616"/>
                </a:solidFill>
                <a:latin typeface="Segoe Print"/>
              </a:rPr>
              <a:t>Виды односоставных предложен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5"/>
          <p:cNvSpPr/>
          <p:nvPr/>
        </p:nvSpPr>
        <p:spPr>
          <a:xfrm>
            <a:off x="1357200" y="5786280"/>
            <a:ext cx="666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Segoe Print"/>
              </a:rPr>
              <a:t>Русский язык, 8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2"/>
          <a:stretch/>
        </p:blipFill>
        <p:spPr>
          <a:xfrm>
            <a:off x="2714760" y="2214720"/>
            <a:ext cx="342900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F:\big_239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TextBox 2"/>
          <p:cNvSpPr/>
          <p:nvPr/>
        </p:nvSpPr>
        <p:spPr>
          <a:xfrm>
            <a:off x="1000080" y="142920"/>
            <a:ext cx="7358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1222b"/>
                </a:solidFill>
                <a:latin typeface="Segoe Print"/>
              </a:rPr>
              <a:t>Основополагающий вопрос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61616"/>
                </a:solidFill>
                <a:latin typeface="Calibri"/>
              </a:rPr>
              <a:t>Всегда ли краткость сестра таланта</a:t>
            </a:r>
            <a:r>
              <a:rPr b="1" lang="ru-RU" sz="4400" spc="-1" strike="noStrike">
                <a:solidFill>
                  <a:srgbClr val="161616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2"/>
          <a:stretch/>
        </p:blipFill>
        <p:spPr>
          <a:xfrm>
            <a:off x="3000240" y="3286080"/>
            <a:ext cx="335772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F:\big_2394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TextBox 2"/>
          <p:cNvSpPr/>
          <p:nvPr/>
        </p:nvSpPr>
        <p:spPr>
          <a:xfrm>
            <a:off x="714240" y="357120"/>
            <a:ext cx="778680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1222b"/>
                </a:solidFill>
                <a:latin typeface="Segoe Print"/>
              </a:rPr>
              <a:t>Проблемные 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1222b"/>
                </a:solidFill>
                <a:latin typeface="Segoe Prin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о какому критерию односоставные предложения делятся на вид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ковы особенности односоставных предложений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F:\big_239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TextBox 2"/>
          <p:cNvSpPr/>
          <p:nvPr/>
        </p:nvSpPr>
        <p:spPr>
          <a:xfrm>
            <a:off x="428760" y="0"/>
            <a:ext cx="828648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1222b"/>
                </a:solidFill>
                <a:latin typeface="Segoe Print"/>
              </a:rPr>
              <a:t>Вопросы учебной темы (частные)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Что такое односоставное предложение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Сколько видов односоставных предложений выделяют в русском языке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Каковы виды односоставных предложений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 каких стилях речи употребляются односоставные предложен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F:\big_2394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2"/>
          <p:cNvSpPr/>
          <p:nvPr/>
        </p:nvSpPr>
        <p:spPr>
          <a:xfrm>
            <a:off x="785880" y="285840"/>
            <a:ext cx="757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1222b"/>
                </a:solidFill>
                <a:latin typeface="Segoe Print"/>
              </a:rPr>
              <a:t>Продолжительность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5"/>
          <p:cNvSpPr/>
          <p:nvPr/>
        </p:nvSpPr>
        <p:spPr>
          <a:xfrm>
            <a:off x="428760" y="2214720"/>
            <a:ext cx="814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6 академических часов (6 уроков по 45 минут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3" descr="big_2394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TextBox 4"/>
          <p:cNvSpPr/>
          <p:nvPr/>
        </p:nvSpPr>
        <p:spPr>
          <a:xfrm>
            <a:off x="1746360" y="714240"/>
            <a:ext cx="632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1222b"/>
                </a:solidFill>
                <a:latin typeface="Segoe Print"/>
              </a:rPr>
              <a:t>Результаты проек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5"/>
          <p:cNvSpPr/>
          <p:nvPr/>
        </p:nvSpPr>
        <p:spPr>
          <a:xfrm>
            <a:off x="1313280" y="2071800"/>
            <a:ext cx="65520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резентация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сочинение стихотворения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сочин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F:\big_239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TextBox 2"/>
          <p:cNvSpPr/>
          <p:nvPr/>
        </p:nvSpPr>
        <p:spPr>
          <a:xfrm>
            <a:off x="142920" y="285840"/>
            <a:ext cx="868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1222b"/>
                </a:solidFill>
                <a:latin typeface="Segoe Print"/>
              </a:rPr>
              <a:t>Информационные ресур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3"/>
          <p:cNvSpPr/>
          <p:nvPr/>
        </p:nvSpPr>
        <p:spPr>
          <a:xfrm>
            <a:off x="571680" y="1357200"/>
            <a:ext cx="8072280" cy="66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Бунеев Р. Н., Бунеева Е.В., Комиссарова Л. Ю., Текучева И. В. Русский язык. Учебник для 8-го класса основной школы. М.: Баллас, 2003. – 304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Русский язык: Учеб. Для 8 кл. общеобразоват. Учреждений / С. Г. Бархударов, С. Е. Крючков, Л. Ю. Максимов, Л. А. Чешко. – 20-е изд. – М.: Просвещение, 1998. – 191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Таблица-памя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пределения, особенности односоставных предложений, примеры, зад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F:\big_239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2"/>
          <p:cNvSpPr/>
          <p:nvPr/>
        </p:nvSpPr>
        <p:spPr>
          <a:xfrm>
            <a:off x="1637280" y="6000840"/>
            <a:ext cx="699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egoe Print"/>
              </a:rPr>
              <a:t>Автор проекта Ахметова Дарь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D:\фото\на печать Даше\Копия DSC02837.JPG"/>
          <p:cNvPicPr/>
          <p:nvPr/>
        </p:nvPicPr>
        <p:blipFill>
          <a:blip r:embed="rId2"/>
          <a:stretch/>
        </p:blipFill>
        <p:spPr>
          <a:xfrm>
            <a:off x="2857680" y="214200"/>
            <a:ext cx="32860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3T10:39:13Z</dcterms:created>
  <dc:creator>Владелец</dc:creator>
  <dc:description/>
  <dc:language>en-US</dc:language>
  <cp:lastModifiedBy>Владелец</cp:lastModifiedBy>
  <dcterms:modified xsi:type="dcterms:W3CDTF">2011-04-12T17:02:30Z</dcterms:modified>
  <cp:revision>18</cp:revision>
  <dc:subject/>
  <dc:title>Слайд 1</dc:title>
</cp:coreProperties>
</file>